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6FD-486D-4C36-B645-E00C0389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CB9-8DAD-456A-8F76-B36F1B8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D7D-B7A6-43D6-9205-478C8C53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C67-2FD3-49C6-9FEB-0124DA32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9E4-8BB2-4C6C-B31E-C319EC3C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9F9-48B6-4600-9E6B-26BEC71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4BC-4E0D-488B-8FE9-B64F582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7C5-BB30-488B-8F54-797208CE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403-DD6B-44F2-BD2A-F63F6DF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BA8-0050-4E6F-80E7-A7235C37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464-DCB1-4C7C-993F-04B81B3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D3F-E512-4ED9-A2C2-B4CEE9B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BEC4-8706-4ED1-85D2-7CABBD7BE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6.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Καλλυντικά: (σελ.6</a:t>
            </a: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5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17720"/>
            <a:ext cx="9144000" cy="4163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λλυντικά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είναι κάθε προϊόν φυσικό ή τεχνητό που έρχεται σε επαφή με την εξωτερική επιφάνεια του σώματος, όπω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αλλι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ιδερμίδ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ύχ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είλ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ε σκοπό τον καθαρισμό, τον αρωματισμό, την προστασία και την διατήρηση της καλής τους κατάστασης. Πρέπει να χρησιμοποιούνται με μέτρο. Σε ευαίσθητα άτομα προκαλού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ερυθρότητ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κοκκίνισμα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ξηρότητ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απολέπιση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ξεφλούδισμα)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ου δέρματος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324560" y="5140440"/>
            <a:ext cx="1819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47:47Z</dcterms:modified>
  <cp:revision>59</cp:revision>
  <dc:subject/>
  <dc:title>PowerPoint Presentation</dc:title>
</cp:coreProperties>
</file>